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005-E0D5-4972-B4DD-991B6851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669-B41C-400F-9F2C-E7F08B96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F31-E103-4C21-A267-2739B7DF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5F0-0407-4D32-8EB4-E47AAB2A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378-AD77-4173-95BD-AB470B10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1E0-09C6-4382-90EE-2FFA2D4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598-4B22-408C-99B0-0CA88404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A3A-317E-4C05-951E-104D9871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141-A40B-4F3C-A604-67BA7F0E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47A-3BD2-4C6A-AD6B-ACFA97D2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5B1-1ED1-444B-87A6-E43F81DF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F3A-3D23-49D3-A242-54AE5C8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220A-98C9-4A0C-A005-24E8FB52D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0680" y="171360"/>
            <a:ext cx="8521560" cy="6271920"/>
            <a:chOff x="310680" y="171360"/>
            <a:chExt cx="8521560" cy="6271920"/>
          </a:xfrm>
        </p:grpSpPr>
        <p:sp>
          <p:nvSpPr>
            <p:cNvPr id="42" name="_s2087"/>
            <p:cNvSpPr/>
            <p:nvPr/>
          </p:nvSpPr>
          <p:spPr>
            <a:xfrm flipH="1" flipV="1">
              <a:off x="2875680" y="2414160"/>
              <a:ext cx="84780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6"/>
            <p:cNvSpPr/>
            <p:nvPr/>
          </p:nvSpPr>
          <p:spPr>
            <a:xfrm>
              <a:off x="939240" y="1090440"/>
              <a:ext cx="217188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apital 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Kingst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6"/>
            <p:cNvSpPr/>
            <p:nvPr/>
          </p:nvSpPr>
          <p:spPr>
            <a:xfrm flipH="1">
              <a:off x="2460240" y="3607560"/>
              <a:ext cx="1053720" cy="1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75"/>
            <p:cNvSpPr/>
            <p:nvPr/>
          </p:nvSpPr>
          <p:spPr>
            <a:xfrm>
              <a:off x="310680" y="3157200"/>
              <a:ext cx="217116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fam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ist 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hn Os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74"/>
            <p:cNvSpPr/>
            <p:nvPr/>
          </p:nvSpPr>
          <p:spPr>
            <a:xfrm flipH="1">
              <a:off x="3634560" y="4159800"/>
              <a:ext cx="466200" cy="73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73"/>
            <p:cNvSpPr/>
            <p:nvPr/>
          </p:nvSpPr>
          <p:spPr>
            <a:xfrm>
              <a:off x="2076120" y="4814280"/>
              <a:ext cx="217116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tra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nce 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ti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72"/>
            <p:cNvSpPr/>
            <p:nvPr/>
          </p:nvSpPr>
          <p:spPr>
            <a:xfrm>
              <a:off x="5041800" y="4159800"/>
              <a:ext cx="472680" cy="7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1"/>
            <p:cNvSpPr/>
            <p:nvPr/>
          </p:nvSpPr>
          <p:spPr>
            <a:xfrm>
              <a:off x="4902120" y="481212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lig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hristianit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60"/>
            <p:cNvSpPr/>
            <p:nvPr/>
          </p:nvSpPr>
          <p:spPr>
            <a:xfrm>
              <a:off x="5628600" y="3607560"/>
              <a:ext cx="10573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59"/>
            <p:cNvSpPr/>
            <p:nvPr/>
          </p:nvSpPr>
          <p:spPr>
            <a:xfrm>
              <a:off x="6661080" y="315504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od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 p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8"/>
            <p:cNvSpPr/>
            <p:nvPr/>
          </p:nvSpPr>
          <p:spPr>
            <a:xfrm flipV="1">
              <a:off x="5419080" y="2412000"/>
              <a:ext cx="847800" cy="50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7"/>
            <p:cNvSpPr/>
            <p:nvPr/>
          </p:nvSpPr>
          <p:spPr>
            <a:xfrm>
              <a:off x="6031800" y="1090440"/>
              <a:ext cx="217188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rink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sh t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56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55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nguag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yo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54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ma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10680" y="171360"/>
            <a:ext cx="8521560" cy="6271920"/>
            <a:chOff x="310680" y="171360"/>
            <a:chExt cx="8521560" cy="6271920"/>
          </a:xfrm>
        </p:grpSpPr>
        <p:sp>
          <p:nvSpPr>
            <p:cNvPr id="58" name="_s3104"/>
            <p:cNvSpPr/>
            <p:nvPr/>
          </p:nvSpPr>
          <p:spPr>
            <a:xfrm flipH="1" flipV="1">
              <a:off x="2875680" y="2414520"/>
              <a:ext cx="847800" cy="50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103"/>
            <p:cNvSpPr/>
            <p:nvPr/>
          </p:nvSpPr>
          <p:spPr>
            <a:xfrm>
              <a:off x="939240" y="1090440"/>
              <a:ext cx="217188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cole’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ll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102"/>
            <p:cNvSpPr/>
            <p:nvPr/>
          </p:nvSpPr>
          <p:spPr>
            <a:xfrm flipH="1">
              <a:off x="2460240" y="3607560"/>
              <a:ext cx="1053720" cy="1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101"/>
            <p:cNvSpPr/>
            <p:nvPr/>
          </p:nvSpPr>
          <p:spPr>
            <a:xfrm>
              <a:off x="310680" y="3157200"/>
              <a:ext cx="217116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sic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o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100"/>
            <p:cNvSpPr/>
            <p:nvPr/>
          </p:nvSpPr>
          <p:spPr>
            <a:xfrm flipH="1">
              <a:off x="3634560" y="4159800"/>
              <a:ext cx="466200" cy="73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99"/>
            <p:cNvSpPr/>
            <p:nvPr/>
          </p:nvSpPr>
          <p:spPr>
            <a:xfrm>
              <a:off x="2076120" y="481500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nguage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96"/>
            <p:cNvSpPr/>
            <p:nvPr/>
          </p:nvSpPr>
          <p:spPr>
            <a:xfrm>
              <a:off x="5041800" y="4159800"/>
              <a:ext cx="472680" cy="7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95"/>
            <p:cNvSpPr/>
            <p:nvPr/>
          </p:nvSpPr>
          <p:spPr>
            <a:xfrm>
              <a:off x="4902120" y="481212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al wearing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orts &amp; T-Shi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094"/>
            <p:cNvSpPr/>
            <p:nvPr/>
          </p:nvSpPr>
          <p:spPr>
            <a:xfrm>
              <a:off x="5628600" y="3607560"/>
              <a:ext cx="10573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093"/>
            <p:cNvSpPr/>
            <p:nvPr/>
          </p:nvSpPr>
          <p:spPr>
            <a:xfrm>
              <a:off x="6661080" y="315504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al foo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 fish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92"/>
            <p:cNvSpPr/>
            <p:nvPr/>
          </p:nvSpPr>
          <p:spPr>
            <a:xfrm flipV="1">
              <a:off x="5419080" y="2412000"/>
              <a:ext cx="847800" cy="50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091"/>
            <p:cNvSpPr/>
            <p:nvPr/>
          </p:nvSpPr>
          <p:spPr>
            <a:xfrm>
              <a:off x="6031800" y="1090440"/>
              <a:ext cx="217188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pti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080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079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pital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ssa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078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ha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1:52:17Z</dcterms:created>
  <dc:creator>teacher</dc:creator>
  <dc:description/>
  <dc:language>en-US</dc:language>
  <cp:lastModifiedBy>teacher</cp:lastModifiedBy>
  <dcterms:modified xsi:type="dcterms:W3CDTF">2010-05-07T11:51:19Z</dcterms:modified>
  <cp:revision>5</cp:revision>
  <dc:subject/>
  <dc:title>Slide 1</dc:title>
</cp:coreProperties>
</file>